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595-A4EF-4478-A651-EA3E36BA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CF0-B010-41D2-9A6B-5B68CD9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B66-D030-48CF-A2E1-AC45AB3F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586-6091-45F6-8741-343D5A8F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14EE-3990-462F-8FEA-703DF44E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BD88-5008-4717-AE81-DE74CF1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640E-94D6-4996-B06D-7299196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A3DB-078C-440E-B66F-761EFD8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1859-AFC2-4735-AEE8-A1D92E1B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F6C-4919-4B92-BE63-2FE4FB2A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BBAE-0044-4C11-9C9C-8E243D2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514-DAF5-4647-9E19-030E44F1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7D92-BBBE-40E4-AC57-4A29C3C4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C9A-2AC6-4BBD-8034-D636FDA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C57E-B32A-4BF3-9496-0EE92537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27B-FC98-4884-9860-441012AD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950A-75F6-4E38-90FA-B8F092E3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F620-3753-4BD2-8C02-34E11144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6B5D-9B61-4049-8A10-EC8286A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7DFE-C0C4-4FA0-975C-85AFCDD8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FAEC-F660-4D53-A5DA-0AD3727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F08B-7078-472B-9134-A8EB69A5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3AC-1054-432A-B635-9A45BB73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EF78-E889-43BE-AEFD-557BCECA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4CFD-3319-412C-8519-5745ED08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2268-E309-49A6-8EA9-40AD450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56E8-3D3A-430F-9B05-BD66E25F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B35E4-B6B7-4AED-AFF7-CE09C8A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EDC0-FC89-47DA-93A8-A03C590D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1F1A-C1F6-43D1-937B-340D3F73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6132-1B5A-4A15-A357-E8118253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BAF7-3B66-4C20-A4DA-07188CC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849A0-9A1E-466C-8288-607F5E8C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AB6-839F-4E7E-9F1B-EBF8449D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96F0-108F-4C24-9AF2-F9ADB43D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92124-CD78-4C4B-B2EC-16618501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BAD0-CD8B-4F57-8489-16F97F84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808C-3BA8-4DD9-999B-204253D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FFCC-E723-49F2-A0EE-BFB91E1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45C1-8643-476F-AD0C-160196E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5281-6576-4816-A667-956E73CB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7C8C-938D-4C5B-AFE0-73280F23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1FCF-FE18-49A7-A4C6-AD32326A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D7BA6-B9E8-4256-9D5A-B14D55B2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97E-12F2-418A-90ED-6814886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3031-C3E4-434D-9318-6BB0968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8E80-C7A9-451E-A7F8-98AC3FC4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B390-7900-4CA1-9D9B-C5AEC7F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0A3E-05EB-40BC-B7EB-4967998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9941-E2E4-4C66-A94C-43FA0B3F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CA7E-1B27-47A2-A6B7-6DC64EE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1E2AD-2E21-4CB7-A3DA-7A21754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45A4-F924-4D84-BC51-E0194333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ADCC-84FB-4CB2-9C6A-A23DB59C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FA68-ACEB-4189-9280-76EEEB1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403-0882-41F9-AD6D-DD61F61D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A16F8-914E-44D0-96EF-F7F405CD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D46-5094-4071-A88B-AAA8B280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CED-9E6F-40F7-A70E-387BF7C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F12-15D9-4407-85C5-C0BF6633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802-7862-400E-AB4C-9495E135A6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D70-7C46-4230-8987-1955543445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1EB-536D-4709-AF40-677D2E3A87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AA22-F02F-4617-8AD5-15522D1DB9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8DA2-7FEC-433B-BFB2-9FEC8F34B5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b2d1f"/>
                </a:solidFill>
                <a:latin typeface="Franklin Gothic Book"/>
              </a:rPr>
              <a:t>Me llamo __________            Clase 8IM</a:t>
            </a:r>
            <a:br>
              <a:rPr sz="3600"/>
            </a:br>
            <a:r>
              <a:rPr b="0" lang="en-US" sz="3600" spc="-1" strike="noStrike">
                <a:solidFill>
                  <a:srgbClr val="9b2d1f"/>
                </a:solidFill>
                <a:latin typeface="Franklin Gothic Book"/>
              </a:rPr>
              <a:t>La fecha es el 20 de abril del 2012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Propósito # 42: </a:t>
            </a:r>
            <a:r>
              <a:rPr b="0" lang="es-ES_tradnl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¿Qué se necesita para esquiar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ctividad Inicial: Copia y respon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Cuándo son populares las estaciones de esquí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Dónde compran los esquiadores los boletos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Qué toman los esquiadores para subir la montaña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Los esquiadores expertos bajan la pista con problema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Los principiantes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Repaso de la tare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AutoShape 18"/>
          <p:cNvSpPr/>
          <p:nvPr/>
        </p:nvSpPr>
        <p:spPr>
          <a:xfrm>
            <a:off x="57240" y="-646200"/>
            <a:ext cx="1762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04920" y="1447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Los esquiadores suben la montaña en el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Compran los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para el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en la ventanilla, o la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José bajó la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para exp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Si uno va a esquiar, necesita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En el invierno hace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A veces, la temperatura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a cinco grados bajo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c5c"/>
                </a:solidFill>
                <a:latin typeface="Franklin Gothic Book"/>
              </a:rPr>
              <a:t>Los pronombr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Lo, la, los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la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re the direct object pronouns. They can replace either a thing or a person. The pronoun must agree with the noun it replaces and it comes right before the verb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un thing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noun 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Ella compró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el anorak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Ella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o 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compró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Compró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os esquís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os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 compró en la misma tiend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¿Miró Juan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 pelota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?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Sí,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 miró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Miró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s raquetas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? 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Sí,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s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 miró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675c5c"/>
                </a:solidFill>
                <a:latin typeface="Franklin Gothic Book"/>
              </a:rPr>
              <a:t>A continu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un pers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noun per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¿Invitaste a Juan?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Sí,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o 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invit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¿Invitaste a María?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Si, </a:t>
            </a: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 invité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EL=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OS=L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=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ff0000"/>
                </a:solidFill>
                <a:latin typeface="Perpetua"/>
              </a:rPr>
              <a:t>LAS=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675c5c"/>
                </a:solidFill>
                <a:latin typeface="Franklin Gothic Book"/>
              </a:rPr>
              <a:t>Tare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WORKBOOK p62 (Exercise 16)</a:t>
            </a:r>
            <a:r>
              <a:rPr b="0" lang="es-DO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4-20T14:59:08Z</dcterms:modified>
  <cp:revision>59</cp:revision>
  <dc:subject/>
  <dc:title>Me llamo __________            Clase 7IM La fecha es el 14 de septiembre del 2011</dc:title>
</cp:coreProperties>
</file>